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537-78AB-4309-85D7-9C2DA44E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3C3-DD56-4886-831C-75F1067B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A83-B0D7-46DA-9043-AAAF053E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726-CBF7-4FBE-A71E-134596B1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10A7-9009-4FC5-82FF-26E21A11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9BD-A8D1-404F-8B23-1A5701A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B4B-3C85-474F-B92F-70F535AF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EE78-3D92-45D3-BECA-1FB93DE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E5D1-6C73-4687-8C18-578ED951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CA1-8F49-470D-82A1-560FD1D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E94B-C3F8-4F5F-A303-380BF97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C4F-D0B1-469E-9DF9-D2B7427A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427A-3F2D-4CE0-8472-08B6562F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7A42-2508-47B6-864B-65A87AE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C4E0-A6A1-4AC9-9DEF-BECF970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60DB-6EC9-4546-B2A7-766F83E1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E4D-57FB-421D-A077-5C61291C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E671-6DF8-4C77-BAA7-ADACD0E7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808B-32B4-481F-97D1-F09F1E20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C3E4-AEDA-4118-8BC1-352D81F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1EAF-FAAE-4132-AE6B-13C79CF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2D48-3A55-449A-A170-F0810D79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0D3-41C5-4F92-BB12-B3B2C218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07E1-3486-425B-B2A8-E1F6B97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B2DC-EDD2-4925-813E-290FB25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0CA3-CB5D-4EE8-AA0A-BEFF086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9368-CC09-4028-99CA-C017815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3855-842E-4043-8A9E-5D783133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5DCB-81A6-4FD1-BE0C-5448A4EE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3EBD-550E-4CED-928D-057BC1D4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F15F-1FA6-4DAB-B90B-21F4CB3E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F162-AA84-4F18-A936-E0C90B1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52DD-3E3D-4AE8-A323-9A167C9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E4C-33ED-41D1-B82A-D44CE4AE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4FBF-265C-4331-BBFC-23B9CF4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B1E4-AA5B-4283-8AF8-5CFB50B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1CB9-C9A3-4044-9CE2-AC236CB4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65F1-F05E-4A41-82BA-9C2714D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EBA6-0D66-4E15-BEB2-E5FD9FC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7442-E5C7-4809-BC93-7BFF1C0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DF1D-7CF5-47E4-98D2-EA225C6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472E-6F09-4B75-89C8-8C53021C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1028-8656-4A9B-9445-94E8F28A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45E8-F7FD-41A4-A793-68670518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EB5-2E74-4937-AAD7-3904A86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4664-6715-43C1-8DF5-3B0E131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BF96-EB5E-4EFA-B128-49455D90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73559-5698-4AC9-9326-BDF55DF2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586C-01A9-498A-BE4D-7FA9FB6B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5D78-7E05-4F91-BF57-52635C8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1EB4-6A7B-4252-83E2-90AF973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67E7-F73B-4C07-AD2D-688CF06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DBE8-BE5C-45F3-A803-468285E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8968-FF3C-4967-9532-FA18F088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465D-15AB-4D53-8D20-11841B0F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166-6D78-44BD-8C35-5F89211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37DF-A046-4EBF-B63D-306631F5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A078-CA49-42FF-A43B-F21AC556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F672-EB8F-42FB-B0F0-EEDBC3E8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68C8-774C-4901-B800-51231B5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1A13F-F926-4C82-8187-86D594D4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C231-7E34-4CB4-BA36-60F6570C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DE0C-FF5F-430F-84FA-A4A7AA0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BF27-1A20-4758-94E0-D685A2C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F97E-A4B8-4B25-916C-28227D3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A454-BEA5-41EC-AA23-32C3A16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5D0-0B34-404A-B919-8C33135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4450-094D-48A8-B4FC-E9C47094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DFA3-F2DB-4B0B-84E4-D8D937AA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D5A0-C846-4533-8B44-37051BA0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6278-D69E-46AB-BC64-3D9BEDC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391F8-4A6E-4150-BD9B-F7DF2D7F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CAE68-A96E-4057-B731-8B0B818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D9570-2AF5-4636-8A6F-35CFD62A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B281-20CB-423E-B8EB-E945BF8E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CD25-27F7-44E7-8C32-C891BC6E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7614-70D6-4F0E-9CA7-F3CE956C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13A-C33F-4117-8B05-9BC56EB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8CBAC-4241-48D6-835B-9CF4A4E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25ED-4205-4B4F-B88F-AF542BA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AE3B-9EC7-4815-A6A7-843D9170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8C06A-1973-4EB7-929F-2437EAB9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C126-0EE5-4D1A-8F83-0FB616BE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DF6-8911-4EEC-982A-60A40DE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FD2E-B6CD-480C-88B7-D5813A2EF76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EF0-5484-4E07-891C-D1B6D9409005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88F6-9F08-4BFB-852B-2A87D2D4790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091C-CA71-461C-9765-5EC136AC881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062E-91BC-400E-85F9-2FF428B79BC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EA12-B42D-4C09-9DBD-504AD18BD21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0E82-C5F8-464D-9BF4-9C0F2DDF755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blogs.browardpalmbeach.com/juice/Mean%2520Girls.jpg&amp;imgrefurl=http://blogdailyherald.com/author/alicia/&amp;usg=__ecddIfGJnh3JW7PAKYg9bP_64E0=&amp;h=500&amp;w=355&amp;sz=41&amp;hl=en&amp;start=16&amp;zoom=1&amp;um=1&amp;itbs=1&amp;tbnid=Mo3_9PuvSkZ9kM:&amp;tbnh=130&amp;tbnw=92&amp;prev=/images%3Fq%3Dmean%2Bgirls%26um%3D1%26hl%3Den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merenwen.freeblog.hu/files/Thirteen-2003.jpg&amp;imgrefurl=http://merenwen.freeblog.hu/categories/Filmek/&amp;usg=__TL6Slz5giQpyKBFqDoIYZnnGBV0=&amp;h=594&amp;w=400&amp;sz=77&amp;hl=en&amp;start=2&amp;zoom=1&amp;um=1&amp;itbs=1&amp;tbnid=GIeS1BQfWu_FoM:&amp;tbnh=135&amp;tbnw=91&amp;prev=/images%3Fq%3D13%2Bfilm%26um%3D1%26hl%3Den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data-allocine.blogomaniac.fr/mdata/1/6/7/Z20051005084305673584761/img/1161867258_pink_ladies.jpg&amp;imgrefurl=http://picsdigger.com/keyword/pink%2520ladies%2520from%2520grease/&amp;usg=__9CEaisvYf70mJwhGoqIjZRp0iPo=&amp;h=262&amp;w=500&amp;sz=90&amp;hl=en&amp;start=3&amp;zoom=1&amp;um=1&amp;itbs=1&amp;tbnid=IucQNjfc9L7wsM:&amp;tbnh=68&amp;tbnw=130&amp;prev=/images%3Fq%3Dgrease%2Bpink%2Bladies%26um%3D1%26hl%3Den%26tbs%3Disch: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imgres?imgurl=http://www.barrylou.com/art/junoPoster2.jpg&amp;imgrefurl=http://www.barrylou.com/juno.html&amp;usg=__UE_76KSlSE_lmLZJDRo-gWcwqdM=&amp;h=781&amp;w=500&amp;sz=248&amp;hl=en&amp;start=3&amp;zoom=1&amp;um=1&amp;itbs=1&amp;tbnid=DX8xyvuw18URwM:&amp;tbnh=143&amp;tbnw=92&amp;prev=/images%3Fq%3Djuno%26um%3D1%26hl%3Den%26tbs%3Disch:1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kidspast.com/images/socrates.jpg&amp;imgrefurl=http://www.kidspast.com/world-history/0071-socrates.php&amp;usg=__dNHE_e6QK9x0QKGMK_r-x66XIT0=&amp;h=400&amp;w=301&amp;sz=89&amp;hl=en&amp;start=2&amp;zoom=1&amp;um=1&amp;itbs=1&amp;tbnid=4Ysro5ee5Am4vM:&amp;tbnh=124&amp;tbnw=93&amp;prev=/images%3Fq%3Dsocrates%26um%3D1%26hl%3Den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e_Wild_One" TargetMode="External"/><Relationship Id="rId2" Type="http://schemas.openxmlformats.org/officeDocument/2006/relationships/hyperlink" Target="http://www.filmsite.org/rebel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http://t3.gstatic.com/images?q=tbn:Mo3_9PuvSkZ9kM:http://blogs.browardpalmbeach.com/juice/Mean%2520Girl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6922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t2.gstatic.com/images?q=tbn:GIeS1BQfWu_FoM:http://merenwen.freeblog.hu/files/Thirteen-2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04640"/>
            <a:ext cx="1403640" cy="2082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://t0.gstatic.com/images?q=tbn:IucQNjfc9L7wsM:http://data-allocine.blogomaniac.fr/mdata/1/6/7/Z20051005084305673584761/img/1161867258_pink_ladie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1773360"/>
            <a:ext cx="2287800" cy="1197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http://t1.gstatic.com/images?q=tbn:DX8xyvuw18URwM:http://www.barrylou.com/art/junoPoster2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356000" y="1052640"/>
            <a:ext cx="1403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1990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Notable decade for teenage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Kurt Cobain commits suicid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olumbine high school shootings take plac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Filmmakers felt they had to be careful about the way they represented high school as teenagers are considered to be highly influenti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merican Pie (1999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 teen sex comedy that claimed to be a true representation of teenage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09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13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200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atherine Hardwicke and Nikki Rei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scar nomina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utobiographical film based on Reid’s life when she was 12/13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ontroversy due to issues such as underage sex, drugs and self-har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56400" y="0"/>
            <a:ext cx="1587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Easy 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ill Glu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een romantic come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fluenced by The Scarlet Let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095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omplete an analysis of representation of teenage girls on a broadcast platfor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V or fil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ednesday 10th Novemb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Socra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"Our youth now love luxury. They have bad manners, contempt for authority; they show disrespect for their elders and love chatter in place of exercise; they no longer rise when elders enter the room; they contradict their parents, chatter before company; gobble up their food and tyrannize their teachers."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2" descr="http://t3.gstatic.com/images?q=tbn:4Ysro5ee5Am4vM:http://www.kidspast.com/images/socrat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98636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Historical Contex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rbel"/>
              </a:rPr>
              <a:t>1920s/1930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Films about teenagers focused on adult fears of youth rather than discussing problems and issues teenagers had to fa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oral codes of the time dictated that onscreen teens would be focused on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ir families, schools, and friends, rarely displaying any adolescent angst over their sexual development, alcohol or drug use, or rebellious impulses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Mickey Rooney – Andy Hardy film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rbel"/>
              </a:rPr>
              <a:t>1940s/1950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After WW2 teenagers became a distinct social group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Producers realised this was the group to target if they wanted to make mone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Juvenile delinquency was the only teenage issue tackled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PHEBIPHOBIA (fear of teenagers) swept the country in the mid-1950s, in the midst of the appearance of rock 'n' roll music</a:t>
            </a:r>
            <a:br>
              <a:rPr sz="20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Historical Contex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268280"/>
            <a:ext cx="7772400" cy="50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Many critics consider the post WW2 era as the advent of what is commonly referred to as the teen movie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Post war films like </a:t>
            </a:r>
            <a:r>
              <a:rPr b="0" lang="en-GB" sz="23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he Wild One</a:t>
            </a: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 (1953) &amp; </a:t>
            </a:r>
            <a:r>
              <a:rPr b="0" lang="en-GB" sz="23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Rebel Without A Cause (1955)</a:t>
            </a: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 were some of the first to represent a generation of angry teens with different values to those of their parents...known as Inter Generational Conflict!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The parents are usually represented as conservative, boring and submissive to the status quo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Indeed, the transition between teenager and adult or the 'coming of age' has been a recurring theme of teen movies since the 50s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Rebel Without a Caus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Nicholas Ray, 195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James De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Spokesperson for an entire generation of teenag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ayes Code meant restri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Up until this point teenagers had been seen as a problem to be solv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Dean as the ‘outsider’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4" name="Picture 2" descr="http://t2.gstatic.com/images?q=tbn:z3VuVlEVzqA_lM:http://thisdistractedglobe.com/wp-content/uploads/2007/01/RebelWithoutACause5.jpg"/>
          <p:cNvPicPr/>
          <p:nvPr/>
        </p:nvPicPr>
        <p:blipFill>
          <a:blip r:embed="rId1"/>
          <a:stretch/>
        </p:blipFill>
        <p:spPr>
          <a:xfrm>
            <a:off x="7380360" y="476280"/>
            <a:ext cx="151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The Outsid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More recently The O.C. revisits this idea with Ryan Atwood playing the role of the kid from the wrong side of the tracks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Inevitably the main protagonist will go through a painful journey of growth, which many teens can identify with. This can also be seen in films like Grease (1978) and Mean Girls (2004)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The importance of individuality and how issues of identity are reconciled with the dominant groups in school are a mainstay of this genre type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(Stereotypical groups and stock characters would include nerds, school jocks, Class President, The Princess, Those destined for college, emo kids etc)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Often themes of love are dealt with as part of the resolution acting as a form of mythical rites of passage before adulthood. </a:t>
            </a:r>
            <a:br>
              <a:rPr sz="2100"/>
            </a:b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839000" y="0"/>
            <a:ext cx="1305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Carri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An interesting comparative text and variation on a theme is Carrie (1978)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This is a revenge film in which the teen genre is combined with horror offering Carrie the opportunity to challenge the usual, 'new equilibrium' (Todorov) by reeking a terrible vengeance on her 'enemies.'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Also note that the film begins in an explicit and shocking manner by showing Carrie having a period in the shower, thereby challenging the male gaze whilst foregrounding the importance of transition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The fact she discovers her 'monstrous powers' at the time of menstruation offers obvious links with feminism and this emerging movement in the 70s. </a:t>
            </a: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837560" y="0"/>
            <a:ext cx="13064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The Breakfast Club - 1985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989000"/>
            <a:ext cx="77724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1980s – seminal decade for teenage fil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is classic teen movie still resonates with contemporary audienc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5 typical teen movie characters – the princess, the athlete, the basket case, the criminal and the br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1563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Heathers - 1989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Reflective representation – a spate of teen suicides in USA in 1986 and 1987 and Heathers is reflective of thi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dark comedy about murder and suicide in a high scho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new kind of teen movie – full of typical clichés but with a different vie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stead of focusing on a teen who wants to be part of a clique, the teenager here desperately wants to get out of a cliqu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899480" y="0"/>
            <a:ext cx="1244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33:59Z</dcterms:created>
  <dc:creator>Grainne</dc:creator>
  <dc:description/>
  <dc:language>en-US</dc:language>
  <cp:lastModifiedBy>gbrolly940</cp:lastModifiedBy>
  <dcterms:modified xsi:type="dcterms:W3CDTF">2010-11-04T15:03:40Z</dcterms:modified>
  <cp:revision>19</cp:revision>
  <dc:subject/>
  <dc:title>Teenage Girls in Film</dc:title>
</cp:coreProperties>
</file>